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9E5F-14B1-42F1-AE6B-3B93E9600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82C6-8C44-416B-A071-99D195E13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DD08-C361-4714-A20B-9EC2748F5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tion of Benedict XIII (reigned 1394 – 1423); source: http://en.wikipedia.org/wiki/File:Antipope_Benedict_XIII.jpg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e Gregory XII (reigned 1406- 1415); source: http://en.wikipedia.org/wiki/File:Gregory_XII.jpg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e Alexander V (reigned 1409- 1410); source: http://en.wikipedia.org/wiki/File:Antipope_Alexander_V_%281409-1410%29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4B60-8240-4A95-B822-F864B6E45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Wycliffe, © John M. Kennedy; source: http://upload.wikimedia.org/wikipedia/commons/3/3e/Jwycliffejmk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 Hus at the stake; source: http://upload.wikimedia.org/wikipedia/commons/b/b0/Jan_Hus_at_the_Stake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asmus by Hans Holbein the Younger; source: http://upload.wikimedia.org/wikipedia/commons/8/89/Hans_Holbein_d._J._04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7920-2AA8-4460-B830-25B274D0C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ther’s Ninety-Five Theses; source: http://upload.wikimedia.org/wikipedia/commons/8/81/95Thes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5651-53E0-4CDA-9111-7616D7708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uther’s Bible; source: http://upload.wikimedia.org/wikipedia/commons/0/03/Lutherbibe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7D0C-754D-4E4D-81ED-AE37E9F6B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ther before the Diet of Worms; source: http://upload.wikimedia.org/wikipedia/commons/1/1d/Diet_of_Worm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077C-BBED-48F1-BFAB-4811C8874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ing press; source: http://upload.wikimedia.org/wikipedia/commons/1/17/Handtiegelpresse_von_181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4710-E79A-43FE-AE4B-2912E51C3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nt Bartholomew’s Day massacre, by François Dubois; source: http://upload.wikimedia.org/wikipedia/commons/8/8d/Massacre_saint_barthelem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F875-3E32-4CB6-8367-26820190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ther’s Bible; source: http://upload.wikimedia.org/wikipedia/commons/0/03/Lutherbibe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D180-F959-4DC4-AFCF-70EB6A76C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Calvin; engraving by René Boyvin; source: http://upload.wikimedia.org/wikipedia/commons/7/7b/Calvin_1562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VIII (ruled 1509 – 1547) by Hans Holbein the Younger; source: http://upload.wikimedia.org/wikipedia/commons/8/8a/Hans_Holbein_d._J._07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D6CA-92FA-49ED-89C9-650703A72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Luthe,r by Lucas Cranach the Elder; source: http://upload.wikimedia.org/wikipedia/commons/6/61/Luther46c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2837-779B-4EB5-9D8B-28D9F3343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quare in modern Wittenberg; source: http://upload.wikimedia.org/wikipedia/commons/b/b0/Wittenberg_Market_square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111F-2358-4B5F-8A55-C24FAB4DC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CE7C-C393-42F9-9D05-406E2C88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ECFE-1612-48EA-8782-A7475364E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cut of the pope selling indulgences,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ssionary of the Christ and Antichrist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upload.wikimedia.org/wikipedia/commons/6/6a/Antichrist1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indulgence; inscription on the left transept of the Basilica of St. John Lateran, Rome. © Marie-Lan Nguyen / Wikimedia Commons. Source: http://en.wikipedia.org/wiki/File:Indulgence_San_Giovanni_in_Laterano_2006-09-0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CBFF-3892-47CD-9DD5-39CB7009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8AF8-A54D-4D91-BC6B-CD81506CE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Philip IV of France (ruled 1285 – 1314); source: http://en.wikipedia.org/wiki/File:Philippe_IV_Le_Be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e Urban VI (reigned 1378 – 1389); source: http://en.wikipedia.org/wiki/File:Urbanus_VI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80BD-B806-4EC7-B10D-A9C9839B7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and the Tiber river, photo by Dana M. Johnson; source: http://upload.wikimedia.org/wikipedia/commons/c/ca/Castel_D%27Angelo_from_across_the_Tiber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gnon; photo by Jean-Marc Rosier; source: http://upload.wikimedia.org/wikipedia/commons/d/db/Avignon%2C_Palais_des_Papes_by_JM_Rosie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913-1029-4905-A91A-EF9322B7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1C4-F430-4822-ADF4-6320482B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289-41AD-4F6F-87BE-E037F001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F58-68CF-43D5-959E-D68B766C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A2A-2CBF-46EB-A3F2-EF15B28E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9C2-9ACB-4DE5-864D-277A29D9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C52-0FEA-4A57-A1A7-794F2C99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F46-15BE-4200-BDFC-53C0E713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C38-A796-4A37-9EF5-C9AC0FF3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E20-2054-40D2-A5E8-3B4774AB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6D8-40F5-4F9C-AC37-479831FA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8C6-BB61-4317-B2C5-2D563BF0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b7d1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cb7d1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b7d1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0873-36AD-4AC7-ABD5-E6E7BEFB7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EFBF-DBCB-4EB4-B5DC-EB31515C6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This PowerPoint presentation accompanies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Closeup Teaching Unit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The Protestant Reformation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1300 – 1570 CE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Martin Luther: The Protestant Reformation</a:t>
            </a:r>
            <a:br>
              <a:rPr sz="4000"/>
            </a:b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  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51" name="Picture 9" descr="slide0001_image004"/>
          <p:cNvPicPr/>
          <p:nvPr/>
        </p:nvPicPr>
        <p:blipFill>
          <a:blip r:embed="rId1"/>
          <a:stretch/>
        </p:blipFill>
        <p:spPr>
          <a:xfrm>
            <a:off x="2743200" y="380880"/>
            <a:ext cx="3733920" cy="10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Three Popes!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The next six popes lived in Avignon. Pope Gregory then moved the papacy back to Rome in 1377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When Gregory died, the French cardinals did not like the new pope in Rome, so they elected a different pope in Avignon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Later, a Church council elected a third pope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81" name="Picture 1" descr="http://upload.wikimedia.org/wikipedia/commons/d/dd/Antipope_Benedict_XIII.jpg"/>
          <p:cNvPicPr/>
          <p:nvPr/>
        </p:nvPicPr>
        <p:blipFill>
          <a:blip r:embed="rId1"/>
          <a:srcRect l="2052" t="1990" r="3690" b="17331"/>
          <a:stretch/>
        </p:blipFill>
        <p:spPr>
          <a:xfrm>
            <a:off x="1600200" y="4876920"/>
            <a:ext cx="1447920" cy="178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File:Gregory XII.jpg"/>
          <p:cNvPicPr/>
          <p:nvPr/>
        </p:nvPicPr>
        <p:blipFill>
          <a:blip r:embed="rId2"/>
          <a:stretch/>
        </p:blipFill>
        <p:spPr>
          <a:xfrm>
            <a:off x="3962520" y="495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File:Antipope Alexander V (1409-1410).JPG"/>
          <p:cNvPicPr/>
          <p:nvPr/>
        </p:nvPicPr>
        <p:blipFill>
          <a:blip r:embed="rId3"/>
          <a:srcRect l="2948" t="3932" r="0" b="10670"/>
          <a:stretch/>
        </p:blipFill>
        <p:spPr>
          <a:xfrm>
            <a:off x="6324480" y="4876920"/>
            <a:ext cx="129564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Calls for Reform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333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John Wycliffe (1330-1384)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Questioned the authority of the pope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Jan Hus (1370-1415)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Criticized the vast wealth of the Church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Desiderius Erasmus (1469-1536)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Attacked corruption in the Church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86" name="Picture 7" descr="http://upload.wikimedia.org/wikipedia/commons/8/89/Hans_Holbein_d._J._047.jpg"/>
          <p:cNvPicPr/>
          <p:nvPr/>
        </p:nvPicPr>
        <p:blipFill>
          <a:blip r:embed="rId1"/>
          <a:stretch/>
        </p:blipFill>
        <p:spPr>
          <a:xfrm>
            <a:off x="7162920" y="4191120"/>
            <a:ext cx="1838160" cy="243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upload.wikimedia.org/wikipedia/commons/b/b0/Jan_Hus_at_the_Stake.jpg"/>
          <p:cNvPicPr/>
          <p:nvPr/>
        </p:nvPicPr>
        <p:blipFill>
          <a:blip r:embed="rId2"/>
          <a:stretch/>
        </p:blipFill>
        <p:spPr>
          <a:xfrm>
            <a:off x="5334120" y="2438280"/>
            <a:ext cx="16048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upload.wikimedia.org/wikipedia/commons/3/3e/Jwycliffejmk.jpg"/>
          <p:cNvPicPr/>
          <p:nvPr/>
        </p:nvPicPr>
        <p:blipFill>
          <a:blip r:embed="rId3"/>
          <a:stretch/>
        </p:blipFill>
        <p:spPr>
          <a:xfrm>
            <a:off x="7086600" y="1143000"/>
            <a:ext cx="17971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Luther Looks for Reforms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6479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uther criticized Church practices, like selling indulgences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He wanted to begin a discussion within the Church about the true path to salvation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He nailed his </a:t>
            </a:r>
            <a:r>
              <a:rPr b="1" i="1" lang="en-US" sz="2400" spc="-1" strike="noStrike">
                <a:solidFill>
                  <a:srgbClr val="336699"/>
                </a:solidFill>
                <a:latin typeface="Verdana"/>
              </a:rPr>
              <a:t>Ninety-Five Theses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, or arguments, to the door of Wittenberg cathedral for all to see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91" name="Picture 6" descr="http://upload.wikimedia.org/wikipedia/commons/8/81/95Thesen.jpg"/>
          <p:cNvPicPr/>
          <p:nvPr/>
        </p:nvPicPr>
        <p:blipFill>
          <a:blip r:embed="rId1"/>
          <a:stretch/>
        </p:blipFill>
        <p:spPr>
          <a:xfrm>
            <a:off x="4952880" y="1981080"/>
            <a:ext cx="4084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Protestant Teaching:</a:t>
            </a:r>
            <a:br>
              <a:rPr sz="4000"/>
            </a:b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Justification by Faith Alone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The Bible is the only source of truth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People can read and understand the Bible themselves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Salvation comes only through faith in Christ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127880" y="5181480"/>
            <a:ext cx="261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be2e"/>
                </a:solidFill>
                <a:latin typeface="Verdana"/>
              </a:rPr>
              <a:t>Luther’s Bib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http://upload.wikimedia.org/wikipedia/commons/0/03/Lutherbibel.jpg"/>
          <p:cNvPicPr/>
          <p:nvPr/>
        </p:nvPicPr>
        <p:blipFill>
          <a:blip r:embed="rId1"/>
          <a:stretch/>
        </p:blipFill>
        <p:spPr>
          <a:xfrm>
            <a:off x="685800" y="2057400"/>
            <a:ext cx="3711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Excommunication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9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Pope Leo X demanded that Luther recant 41 of his </a:t>
            </a:r>
            <a:r>
              <a:rPr b="1" i="1" lang="en-US" sz="2400" spc="-1" strike="noStrike">
                <a:solidFill>
                  <a:srgbClr val="336699"/>
                </a:solidFill>
                <a:latin typeface="Verdana"/>
              </a:rPr>
              <a:t>Ninety-Five Theses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uther was brought before the Diet of Worms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In January 1521, Luther was excommunicated from the Church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98" name="Picture 6" descr="http://upload.wikimedia.org/wikipedia/commons/1/1d/Diet_of_Worms.jpg"/>
          <p:cNvPicPr/>
          <p:nvPr/>
        </p:nvPicPr>
        <p:blipFill>
          <a:blip r:embed="rId1"/>
          <a:stretch/>
        </p:blipFill>
        <p:spPr>
          <a:xfrm>
            <a:off x="2590920" y="1219320"/>
            <a:ext cx="3609720" cy="227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The Printing Press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uther’s ideas spread quickly with the help of the printing press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uther’s supporters distributed copies of his speeches and essays far and wide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Millions of people sided with Luther against the Roman Catholic Church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101" name="Picture 6" descr="http://upload.wikimedia.org/wikipedia/commons/1/17/Handtiegelpresse_von_1811.jpg"/>
          <p:cNvPicPr/>
          <p:nvPr/>
        </p:nvPicPr>
        <p:blipFill>
          <a:blip r:embed="rId1"/>
          <a:srcRect l="10278" t="8802" r="6340" b="2992"/>
          <a:stretch/>
        </p:blipFill>
        <p:spPr>
          <a:xfrm>
            <a:off x="5181480" y="1143000"/>
            <a:ext cx="3267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A New Church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Luther soon had many followers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His supporters began to organize a new Christian denomination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Several German princes supported Luther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Lutherans and Catholics fought each other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he first wars ended with the Treaty of Augsburg, but fighting in Europe over religion continued to the mid-seventeenth century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562720" y="1600200"/>
            <a:ext cx="3124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be2e"/>
                </a:solidFill>
                <a:latin typeface="Verdana"/>
              </a:rPr>
              <a:t>Saint Bartholomew’s </a:t>
            </a: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be2e"/>
                </a:solidFill>
                <a:latin typeface="Verdana"/>
              </a:rPr>
              <a:t>Day massacre</a:t>
            </a: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105" name="Picture 6" descr="http://upload.wikimedia.org/wikipedia/commons/8/8d/Massacre_saint_barthelemy.jpg"/>
          <p:cNvPicPr/>
          <p:nvPr/>
        </p:nvPicPr>
        <p:blipFill>
          <a:blip r:embed="rId1"/>
          <a:stretch/>
        </p:blipFill>
        <p:spPr>
          <a:xfrm>
            <a:off x="5410080" y="1447920"/>
            <a:ext cx="3311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Lutheranism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uther’s followers disagreed with many of the teachings of the Catholic Church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They rejected the authority of Church councils and the pope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Reading the Bible was the only way to learn how to lead a good life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be2e"/>
                </a:solidFill>
                <a:latin typeface="Verdana"/>
              </a:rPr>
              <a:t>Luther translated 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be2e"/>
                </a:solidFill>
                <a:latin typeface="Verdana"/>
              </a:rPr>
              <a:t>the  Bible into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be2e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a5be2e"/>
                </a:solidFill>
                <a:latin typeface="Verdana"/>
              </a:rPr>
              <a:t>German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109" name="Picture 6" descr="http://upload.wikimedia.org/wikipedia/commons/0/03/Lutherbibel.jpg"/>
          <p:cNvPicPr/>
          <p:nvPr/>
        </p:nvPicPr>
        <p:blipFill>
          <a:blip r:embed="rId1"/>
          <a:stretch/>
        </p:blipFill>
        <p:spPr>
          <a:xfrm>
            <a:off x="4800600" y="2133720"/>
            <a:ext cx="3711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The Reformation spread to other countries</a:t>
            </a:r>
            <a:r>
              <a:rPr b="1" lang="en-US" sz="4000" spc="-1" strike="noStrike">
                <a:solidFill>
                  <a:srgbClr val="cb7d1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952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France and Switzerland:                     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John Calvin preached the idea of “predestination” and that some people had been chosen by God for salvation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England:                    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King Henry VIII refused to recognize the Roman Catholic Church and started a new church, the Church of England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112" name="Picture 7" descr="http://upload.wikimedia.org/wikipedia/commons/7/7b/Calvin_1562.jpg"/>
          <p:cNvPicPr/>
          <p:nvPr/>
        </p:nvPicPr>
        <p:blipFill>
          <a:blip r:embed="rId1"/>
          <a:stretch/>
        </p:blipFill>
        <p:spPr>
          <a:xfrm>
            <a:off x="6858000" y="1523880"/>
            <a:ext cx="2016000" cy="269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8" descr="http://upload.wikimedia.org/wikipedia/commons/8/8a/Hans_Holbein_d._J._074.jpg"/>
          <p:cNvPicPr/>
          <p:nvPr/>
        </p:nvPicPr>
        <p:blipFill>
          <a:blip r:embed="rId2"/>
          <a:srcRect l="24348" t="0" r="16808" b="48946"/>
          <a:stretch/>
        </p:blipFill>
        <p:spPr>
          <a:xfrm>
            <a:off x="5257800" y="4029120"/>
            <a:ext cx="251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A741-D581-4EE4-8D78-C5963F93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6" descr="earth_anim"/>
          <p:cNvPicPr/>
          <p:nvPr/>
        </p:nvPicPr>
        <p:blipFill>
          <a:blip r:embed="rId1"/>
          <a:stretch/>
        </p:blipFill>
        <p:spPr>
          <a:xfrm>
            <a:off x="1600200" y="152280"/>
            <a:ext cx="5867280" cy="5867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5"/>
          <p:cNvSpPr/>
          <p:nvPr/>
        </p:nvSpPr>
        <p:spPr>
          <a:xfrm>
            <a:off x="3276720" y="27432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En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Martin Luther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53" name="Picture 5" descr="http://upload.wikimedia.org/wikipedia/commons/6/61/Luther46c.jpg"/>
          <p:cNvPicPr/>
          <p:nvPr/>
        </p:nvPicPr>
        <p:blipFill>
          <a:blip r:embed="rId1"/>
          <a:stretch/>
        </p:blipFill>
        <p:spPr>
          <a:xfrm>
            <a:off x="2286000" y="457200"/>
            <a:ext cx="4392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Who was Martin Luther?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Born in Germany in 1483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After surviving a violent storm, he vowed to become a monk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ived in the city of Wittenberg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Died in 1546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56" name="Picture 7" descr="http://upload.wikimedia.org/wikipedia/commons/b/b0/Wittenberg_Market_square.JPG"/>
          <p:cNvPicPr/>
          <p:nvPr/>
        </p:nvPicPr>
        <p:blipFill>
          <a:blip r:embed="rId1"/>
          <a:stretch/>
        </p:blipFill>
        <p:spPr>
          <a:xfrm>
            <a:off x="4495680" y="17524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Definitions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Protest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To express strong objection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Reform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To improve by correcting errors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Problems in the Church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5181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Corruption               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Political Conflicts               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Corruption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427824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The Church raised money through practices like simony and selling indulgences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64" name="Picture 9" descr="http://upload.wikimedia.org/wikipedia/commons/6/6a/Antichrist1.jpg"/>
          <p:cNvPicPr/>
          <p:nvPr/>
        </p:nvPicPr>
        <p:blipFill>
          <a:blip r:embed="rId1"/>
          <a:stretch/>
        </p:blipFill>
        <p:spPr>
          <a:xfrm>
            <a:off x="5257800" y="1143000"/>
            <a:ext cx="2536920" cy="312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upload.wikimedia.org/wikipedia/commons/4/4e/Indulgence_San_Giovanni_in_Laterano_2006-09-07.jpg"/>
          <p:cNvPicPr/>
          <p:nvPr/>
        </p:nvPicPr>
        <p:blipFill>
          <a:blip r:embed="rId2"/>
          <a:stretch/>
        </p:blipFill>
        <p:spPr>
          <a:xfrm>
            <a:off x="1523880" y="4572000"/>
            <a:ext cx="57135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25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Advantages of Buying Indulgenc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Go Directly to Heaven!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320040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Do not go to Hell!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Do not go to Purgatory!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Get through Purgatory faster!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Do not pass Go!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Political Conflict</a:t>
            </a:r>
            <a:br>
              <a:rPr sz="4000"/>
            </a:b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KINGS AND QUEENS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POPES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71" name="Picture 8" descr="File:Philippe IV Le Bel.jpg"/>
          <p:cNvPicPr/>
          <p:nvPr/>
        </p:nvPicPr>
        <p:blipFill>
          <a:blip r:embed="rId1"/>
          <a:stretch/>
        </p:blipFill>
        <p:spPr>
          <a:xfrm>
            <a:off x="1143000" y="2743200"/>
            <a:ext cx="272268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File:Urbanus VI.jpg"/>
          <p:cNvPicPr/>
          <p:nvPr/>
        </p:nvPicPr>
        <p:blipFill>
          <a:blip r:embed="rId2"/>
          <a:stretch/>
        </p:blipFill>
        <p:spPr>
          <a:xfrm>
            <a:off x="5410080" y="2286000"/>
            <a:ext cx="24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Papal Schism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In 1301, the king tried to tax the French clergy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he pope threatened to excommunicate the king and so was arrested. He was later released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he next pope, Clement V, moved the headquarters of the Church from Rome to Avignon in southern France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Many people felt that the French kings controlled the Church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1948680" y="335268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be2e"/>
                </a:solidFill>
                <a:latin typeface="Verdana"/>
              </a:rPr>
              <a:t>Ro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5695920" y="32767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be2e"/>
                </a:solidFill>
                <a:latin typeface="Verdana"/>
              </a:rPr>
              <a:t>Avign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9" descr="http://upload.wikimedia.org/wikipedia/commons/c/ca/Castel_D%27Angelo_from_across_the_Tiber.jpg"/>
          <p:cNvPicPr/>
          <p:nvPr/>
        </p:nvPicPr>
        <p:blipFill>
          <a:blip r:embed="rId1"/>
          <a:stretch/>
        </p:blipFill>
        <p:spPr>
          <a:xfrm>
            <a:off x="9144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upload.wikimedia.org/wikipedia/commons/d/db/Avignon%2C_Palais_des_Papes_by_JM_Rosier.jpg"/>
          <p:cNvPicPr/>
          <p:nvPr/>
        </p:nvPicPr>
        <p:blipFill>
          <a:blip r:embed="rId2"/>
          <a:stretch/>
        </p:blipFill>
        <p:spPr>
          <a:xfrm>
            <a:off x="4114800" y="1143000"/>
            <a:ext cx="4630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55:11Z</dcterms:created>
  <dc:creator>Gerard Morrison</dc:creator>
  <dc:description/>
  <dc:language>en-US</dc:language>
  <cp:lastModifiedBy>Robert</cp:lastModifiedBy>
  <dcterms:modified xsi:type="dcterms:W3CDTF">2010-11-21T00:59:23Z</dcterms:modified>
  <cp:revision>150</cp:revision>
  <dc:subject>Protestant Reformation</dc:subject>
  <dc:title>MARTIN LUTHER</dc:title>
</cp:coreProperties>
</file>